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1595-F13B-4710-9968-16810C0E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7863-38E1-4E11-A811-D7C74AFA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9CC3-019E-48EC-9A67-582DC3E6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C6E2-9D14-4029-BBE9-C86060F4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80F9-07F0-4E69-A3DE-1CC85469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7622-4916-42C0-965F-653F89EB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4371-E48F-4382-805C-64EC5752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80EB-26CA-4D54-B74C-FA7138AB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0BCE-3167-48C0-8622-0760B16E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5AE6-7075-4A1A-99E6-0EC54832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4071-C90B-4B67-A58D-B7418547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743D-9FA8-4715-B343-7233B7F3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5647-8D9A-4526-9918-F90A296FFEE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Langu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1600200"/>
            <a:ext cx="224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escriptive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w a person, object or idea is describ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anguage, especially  adjectives, used literally and chosen to depict a person, object or idea in such a way as to present their qualities/characteristics accurat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26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mag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ensory imag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ensual imag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03640" y="1600200"/>
            <a:ext cx="56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igurative (i.e. not literal) language used to capture a particular mood or create a vivid visual eff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anguage appealing to the five senses of sight, hearing, touch, taste, sm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anguage evoking/appealing to the senses, especially in a sexual 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4920" y="1628640"/>
            <a:ext cx="253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sim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metaph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erson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43280" y="1600200"/>
            <a:ext cx="5843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mage created by making a direct comparison between two objects or ideas using ‘like’, ‘as’, or ‘as if’, e.g.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louds as fluffy as mering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mage created by making a direct comparison between two objects or ideas, e.g.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meringue clouds floated 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mage created by attributing human qualities to an inanimate object, e.g.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he clouds shed bitter t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Walker, Kimberly</cp:lastModifiedBy>
  <dcterms:modified xsi:type="dcterms:W3CDTF">2014-12-17T10:57:20Z</dcterms:modified>
  <cp:revision>52</cp:revision>
  <dc:subject/>
  <dc:title>La Belle Dame Sans Merci</dc:title>
</cp:coreProperties>
</file>